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6C50-CC46-42E8-A0E6-BC7AEE6B6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B138-0D5F-4F66-8882-E6AEF4B5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3920-A62B-468D-8E86-CBC4FDF57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156F-ECF7-492F-A554-302C4DF6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784F-D161-47EB-86B1-96D6D9C7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D39A-6CE6-4751-B262-EE186CC0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046A-932D-4303-A26D-C253D6D8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4CE4-4126-4C37-AF94-72F28502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A06D-EAEF-4B46-9E65-E9830F1B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F923-69BC-4816-BDEB-01559D6D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1189-8940-4E82-AF52-73EDE4CF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6693-2988-454F-B589-7AFC81B4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11D2-40E4-4D11-BD28-2A5EB98D2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          Clase 7 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9 de octubre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11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repasamos para la Prueba de maña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opi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y completa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Ejercicio 8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. 86 (1-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Yo _________(hacer) un viaje a Marbella. Marbella _______ (estar) en la Costa del Sol en el sur de España. Mi amiga Sandra ________(hacer) el viaje también. Nosotros 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(hacer) el viaje en avión hasta Málaga y luego __________ (ir) a tomar el autobús a Marbel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-¡Ay, ay, Sandra! Pero tú _________(traer) mucho equipaj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-No, yo no _______(traer) mucho. _______(tener) solo dos maletas. Tú exageras. Tú también _______(venir) con mucho equipaj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-¡Oye! ¿A qué hora ________(salir) nuestro vuel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-No ________(salir) hasta las seis y media. Nosotros ___________(tener) mucho tiempo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360" y="1712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360" y="1082520"/>
            <a:ext cx="6340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                                  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990720" y="1676520"/>
          <a:ext cx="5257800" cy="1471320"/>
        </p:xfrm>
        <a:graphic>
          <a:graphicData uri="http://schemas.openxmlformats.org/drawingml/2006/table">
            <a:tbl>
              <a:tblPr/>
              <a:tblGrid>
                <a:gridCol w="976320"/>
                <a:gridCol w="1127160"/>
                <a:gridCol w="1126800"/>
                <a:gridCol w="974880"/>
                <a:gridCol w="1052640"/>
              </a:tblGrid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E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RD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ER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T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 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1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 0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Pa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3305160"/>
            <a:ext cx="1828800" cy="1190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76720" y="3200400"/>
            <a:ext cx="1523880" cy="1400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638680" y="3276720"/>
            <a:ext cx="1752840" cy="1506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990720" y="4876920"/>
            <a:ext cx="3209760" cy="1428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715000" y="51055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I-copia y comple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pasajeros pueden llevar ______________ a bordo del av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vuelo a Madrid sale de la ________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abordar el avión, el pasajero necesita una ___________ de embar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aeropuerto, los agentes trabajan en el ____________ de la línea aé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agente __________ los boletos y pasapor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pasajeros deben ____________ el equipaje antes de abordar el av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II- Copia y completa la oracion con la forma correcta del verb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_ los libros a clase. (tra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vuelo ________ a tiempo. (sal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__________ la tarea. (ha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alumnos ________ el trabajo en la pizarra. (pon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_ mi maleta. (ha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la ___________ de su casa. (ven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 ___________ de la casa a las siete. (sal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agentes ____________ las maletas en la bascula. (pon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 _____________ solo dos maletas. (tra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_______ de la clase de yoga. (ven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for Quiz tomorr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port 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cer, traer, salir, poner y venir ver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22:39:30Z</dcterms:created>
  <dc:creator>Helen Zumaeta</dc:creator>
  <dc:description/>
  <dc:language>en-US</dc:language>
  <cp:lastModifiedBy>Helen Zumaeta</cp:lastModifiedBy>
  <dcterms:modified xsi:type="dcterms:W3CDTF">2011-10-19T20:53:11Z</dcterms:modified>
  <cp:revision>6</cp:revision>
  <dc:subject/>
  <dc:title>Me llamo ________           Clase 7 IM La fecha es el 19 de octubre del 2011</dc:title>
</cp:coreProperties>
</file>